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311D-0B3C-477C-A6F8-BB7D637D38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xam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Remember:  The lead coefficient should be positive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do this, multiply the polynomial by –1 using the distributive propert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actic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, or cub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1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, or cub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 degree, or quadratic,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roblem 2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 degree, or quadratic,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termine the degree of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classify a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write a polynomial in standar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Objectiv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:  A monomial or a sum of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:  A polynomial with exactly two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:  A polynomial with exactly thre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Monomial:  A number, a variable or the product of a number and one or more variab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:  A monomial or a sum of monomial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Binomial:  A polynomial with exactly two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rinomial:  A polynomial with exactly three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Coefficient:  A numerical factor in a term of an algebraic express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Vocabular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:  The sum of the exponents of all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polynomial in one variable: 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:  When the terms of a polynomial are arranged from the largest exponent to the smallest exponent in decreasing orde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 of a 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egree of the monom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onents of each variable are 4 and 2.  4+2 =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the monomial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nomial can be referred to as a sixth degree mo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Degree of a 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is a monomial or the sum of 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monomial in a polynomial is a term of th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factor of a term is called the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wo terms is called a b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lynomial with three terms is called a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lead coefficient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wo terms is called a b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polynomial with three terms is called a tri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in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stant has no variable.  It is a 0 degree poly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Polynomials in One Variab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1st degree polynomial.  1st degree polynomials are line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2nd degree polynomial.  2nd degree polynomials are quadrat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is is a 3rd degree polynomial.  3rd degree polynomials are cubi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the polynomials by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Examp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tandard For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The leading coefficient, the coefficient of the first term in a polynomial written in standard form, should be positive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CEB-B75A-4FD6-A2C7-8D340850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BE4E-2360-4A30-85E0-F7BDE66A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E9A8-6D25-45FB-AD93-693B4552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C2A-3704-4452-B1D5-24501B9BB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2486-4840-4E76-8D9D-C2E2673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D43F-5C0F-4170-AA81-71ED264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2F9E-36C0-49DB-9770-5BFD19C2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CECB-2F23-4CEE-9461-58A5E264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4535-F7CE-4940-90E5-84B19692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07BA-5242-4627-A842-63A5A5A79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A913-0C0C-46DF-BB2C-37A23A71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F2D-E81A-4A80-A4DE-2AB3DCC3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98DE-63CF-4D6E-9CF9-F6B022D8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B0C7-B9A1-43A6-ABED-2B40D777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EBF-C410-4821-9D0C-15680843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95D7-DAEF-4BD0-A968-56C52051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8673-BBBD-4429-BABF-9773C2C7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7C9-1D46-4EE2-BED7-852105C8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085-130B-47EE-AB27-52801217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A34-5698-460E-839D-7DBFD53A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D38-F4DD-4522-B983-8D87B3D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5B7-2254-4DF6-87F5-905FD3B1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C0D-B2B4-47A4-9095-E9C4EF4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E69-FA49-45E8-94B4-D44361B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4471-66C1-4935-9916-454E0BF16E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196-F0EA-40F0-B50A-CA771E934E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3"/>
          <p:cNvSpPr txBox="1"/>
          <p:nvPr/>
        </p:nvSpPr>
        <p:spPr>
          <a:xfrm>
            <a:off x="914400" y="1828800"/>
            <a:ext cx="5943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lynomial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0" name="Object 2"/>
              <p:cNvSpPr txBox="1"/>
              <p:nvPr/>
            </p:nvSpPr>
            <p:spPr>
              <a:xfrm>
                <a:off x="1295280" y="2209680"/>
                <a:ext cx="2652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WordArt 3"/>
          <p:cNvSpPr txBox="1"/>
          <p:nvPr/>
        </p:nvSpPr>
        <p:spPr>
          <a:xfrm>
            <a:off x="609480" y="304920"/>
            <a:ext cx="5105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660066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s</a:t>
            </a:r>
            <a:endParaRPr b="0" lang="en-US" sz="2400" spc="1" strike="noStrike">
              <a:ln w="28440">
                <a:solidFill>
                  <a:srgbClr val="660066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7"/>
              <p:cNvSpPr txBox="1"/>
              <p:nvPr/>
            </p:nvSpPr>
            <p:spPr>
              <a:xfrm>
                <a:off x="2666880" y="3352680"/>
                <a:ext cx="77652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1371600" y="3276720"/>
                <a:ext cx="6462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9"/>
              <p:cNvSpPr txBox="1"/>
              <p:nvPr/>
            </p:nvSpPr>
            <p:spPr>
              <a:xfrm>
                <a:off x="1981080" y="3276720"/>
                <a:ext cx="74448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10"/>
              <p:cNvSpPr txBox="1"/>
              <p:nvPr/>
            </p:nvSpPr>
            <p:spPr>
              <a:xfrm>
                <a:off x="3429000" y="3352680"/>
                <a:ext cx="58248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6" name="Rectangle 12"/>
          <p:cNvSpPr/>
          <p:nvPr/>
        </p:nvSpPr>
        <p:spPr>
          <a:xfrm>
            <a:off x="1219320" y="2133720"/>
            <a:ext cx="2819160" cy="19047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1219320" y="16002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4343400" y="2133720"/>
            <a:ext cx="4267080" cy="42670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5"/>
              <p:cNvSpPr txBox="1"/>
              <p:nvPr/>
            </p:nvSpPr>
            <p:spPr>
              <a:xfrm>
                <a:off x="4724280" y="2362320"/>
                <a:ext cx="35308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20"/>
              <p:cNvSpPr txBox="1"/>
              <p:nvPr/>
            </p:nvSpPr>
            <p:spPr>
              <a:xfrm>
                <a:off x="5257800" y="3200400"/>
                <a:ext cx="939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21"/>
              <p:cNvSpPr txBox="1"/>
              <p:nvPr/>
            </p:nvSpPr>
            <p:spPr>
              <a:xfrm>
                <a:off x="4648320" y="3200400"/>
                <a:ext cx="744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2"/>
              <p:cNvSpPr txBox="1"/>
              <p:nvPr/>
            </p:nvSpPr>
            <p:spPr>
              <a:xfrm>
                <a:off x="7620120" y="3276720"/>
                <a:ext cx="5824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23"/>
              <p:cNvSpPr txBox="1"/>
              <p:nvPr/>
            </p:nvSpPr>
            <p:spPr>
              <a:xfrm>
                <a:off x="6858000" y="3276720"/>
                <a:ext cx="7761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24"/>
              <p:cNvSpPr txBox="1"/>
              <p:nvPr/>
            </p:nvSpPr>
            <p:spPr>
              <a:xfrm>
                <a:off x="6095880" y="3200400"/>
                <a:ext cx="93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30"/>
              <p:cNvSpPr txBox="1"/>
              <p:nvPr/>
            </p:nvSpPr>
            <p:spPr>
              <a:xfrm>
                <a:off x="4419720" y="4648320"/>
                <a:ext cx="41148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33"/>
              <p:cNvSpPr txBox="1"/>
              <p:nvPr/>
            </p:nvSpPr>
            <p:spPr>
              <a:xfrm>
                <a:off x="5257800" y="5562720"/>
                <a:ext cx="907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34"/>
              <p:cNvSpPr txBox="1"/>
              <p:nvPr/>
            </p:nvSpPr>
            <p:spPr>
              <a:xfrm>
                <a:off x="4776840" y="5562720"/>
                <a:ext cx="453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35"/>
              <p:cNvSpPr txBox="1"/>
              <p:nvPr/>
            </p:nvSpPr>
            <p:spPr>
              <a:xfrm>
                <a:off x="7588080" y="5638680"/>
                <a:ext cx="615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36"/>
              <p:cNvSpPr txBox="1"/>
              <p:nvPr/>
            </p:nvSpPr>
            <p:spPr>
              <a:xfrm>
                <a:off x="6842160" y="5638680"/>
                <a:ext cx="776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37"/>
              <p:cNvSpPr txBox="1"/>
              <p:nvPr/>
            </p:nvSpPr>
            <p:spPr>
              <a:xfrm>
                <a:off x="6095880" y="5562720"/>
                <a:ext cx="906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AutoShape 51"/>
          <p:cNvSpPr/>
          <p:nvPr/>
        </p:nvSpPr>
        <p:spPr>
          <a:xfrm>
            <a:off x="4724280" y="4191120"/>
            <a:ext cx="609840" cy="504720"/>
          </a:xfrm>
          <a:custGeom>
            <a:avLst/>
            <a:gdLst>
              <a:gd name="textAreaLeft" fmla="*/ 122040 w 609840"/>
              <a:gd name="textAreaRight" fmla="*/ 369720 w 6098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AutoShape 52"/>
          <p:cNvSpPr/>
          <p:nvPr/>
        </p:nvSpPr>
        <p:spPr>
          <a:xfrm>
            <a:off x="4724280" y="4191120"/>
            <a:ext cx="1600200" cy="533160"/>
          </a:xfrm>
          <a:custGeom>
            <a:avLst/>
            <a:gdLst>
              <a:gd name="textAreaLeft" fmla="*/ 320040 w 1600200"/>
              <a:gd name="textAreaRight" fmla="*/ 969480 w 16002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AutoShape 53"/>
          <p:cNvSpPr/>
          <p:nvPr/>
        </p:nvSpPr>
        <p:spPr>
          <a:xfrm>
            <a:off x="4724280" y="4191120"/>
            <a:ext cx="2743200" cy="504720"/>
          </a:xfrm>
          <a:custGeom>
            <a:avLst/>
            <a:gdLst>
              <a:gd name="textAreaLeft" fmla="*/ 548640 w 2743200"/>
              <a:gd name="textAreaRight" fmla="*/ 1662120 w 27432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AutoShape 54"/>
          <p:cNvSpPr/>
          <p:nvPr/>
        </p:nvSpPr>
        <p:spPr>
          <a:xfrm>
            <a:off x="4724280" y="4191120"/>
            <a:ext cx="3657600" cy="504720"/>
          </a:xfrm>
          <a:custGeom>
            <a:avLst/>
            <a:gdLst>
              <a:gd name="textAreaLeft" fmla="*/ 731520 w 3657600"/>
              <a:gd name="textAreaRight" fmla="*/ 2216160 w 365760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AutoShape 55"/>
          <p:cNvSpPr/>
          <p:nvPr/>
        </p:nvSpPr>
        <p:spPr>
          <a:xfrm>
            <a:off x="4724280" y="4191120"/>
            <a:ext cx="4267440" cy="504720"/>
          </a:xfrm>
          <a:custGeom>
            <a:avLst/>
            <a:gdLst>
              <a:gd name="textAreaLeft" fmla="*/ 853560 w 4267440"/>
              <a:gd name="textAreaRight" fmla="*/ 2585880 w 4267440"/>
              <a:gd name="textAreaTop" fmla="*/ 67320 h 504720"/>
              <a:gd name="textAreaBottom" fmla="*/ 4374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40" hR="21600" stAng="10800000" swAng="5400000"/>
                <a:lnTo>
                  <a:pt x="8768" y="0"/>
                </a:lnTo>
                <a:arcTo wR="8640" hR="21600" stAng="-5400000" swAng="1144127"/>
                <a:lnTo>
                  <a:pt x="18609" y="5257"/>
                </a:lnTo>
                <a:lnTo>
                  <a:pt x="17344" y="21600"/>
                </a:lnTo>
                <a:lnTo>
                  <a:pt x="10097" y="5257"/>
                </a:lnTo>
                <a:lnTo>
                  <a:pt x="14289" y="5257"/>
                </a:lnTo>
                <a:arcTo wR="8640" hR="21600" stAng="-4255873" swAng="-1133941"/>
                <a:lnTo>
                  <a:pt x="8704" y="1"/>
                </a:lnTo>
                <a:arcTo wR="8640" hR="21600" stAng="-5410186" swAng="-5389814"/>
                <a:close/>
              </a:path>
              <a:path fill="darkenLess" w="21600" h="21600">
                <a:moveTo>
                  <a:pt x="0" y="21600"/>
                </a:moveTo>
                <a:arcTo wR="8640" hR="21600" stAng="10800000" swAng="5400000"/>
                <a:lnTo>
                  <a:pt x="8640" y="0"/>
                </a:lnTo>
                <a:arcTo wR="8640" hR="21600" stAng="-5400000" swAng="10186"/>
                <a:lnTo>
                  <a:pt x="8704" y="1"/>
                </a:lnTo>
                <a:arcTo wR="8640" hR="21600" stAng="-5410186" swAng="-5389814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AutoShape 56"/>
          <p:cNvSpPr/>
          <p:nvPr/>
        </p:nvSpPr>
        <p:spPr>
          <a:xfrm>
            <a:off x="152280" y="4114800"/>
            <a:ext cx="4191120" cy="2514600"/>
          </a:xfrm>
          <a:prstGeom prst="cloudCallout">
            <a:avLst>
              <a:gd name="adj1" fmla="val 53523"/>
              <a:gd name="adj2" fmla="val -74050"/>
            </a:avLst>
          </a:prstGeom>
          <a:solidFill>
            <a:srgbClr val="cfdbfd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Text Box 57"/>
          <p:cNvSpPr/>
          <p:nvPr/>
        </p:nvSpPr>
        <p:spPr>
          <a:xfrm>
            <a:off x="838080" y="4495680"/>
            <a:ext cx="2514600" cy="21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Remember:  The lead coefficient should be positive in standard form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o do this, multiply the polynomial by –1 using the distributive property.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Line 60"/>
          <p:cNvSpPr/>
          <p:nvPr/>
        </p:nvSpPr>
        <p:spPr>
          <a:xfrm>
            <a:off x="1523880" y="2514600"/>
            <a:ext cx="167652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9" name="Line 61"/>
          <p:cNvSpPr/>
          <p:nvPr/>
        </p:nvSpPr>
        <p:spPr>
          <a:xfrm flipH="1">
            <a:off x="159984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Line 63"/>
          <p:cNvSpPr/>
          <p:nvPr/>
        </p:nvSpPr>
        <p:spPr>
          <a:xfrm flipH="1">
            <a:off x="2437920" y="2514600"/>
            <a:ext cx="68580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Line 64"/>
          <p:cNvSpPr/>
          <p:nvPr/>
        </p:nvSpPr>
        <p:spPr>
          <a:xfrm>
            <a:off x="3809880" y="2514600"/>
            <a:ext cx="0" cy="10666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Line 66"/>
          <p:cNvSpPr/>
          <p:nvPr/>
        </p:nvSpPr>
        <p:spPr>
          <a:xfrm>
            <a:off x="4952880" y="2666880"/>
            <a:ext cx="83844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Line 67"/>
          <p:cNvSpPr/>
          <p:nvPr/>
        </p:nvSpPr>
        <p:spPr>
          <a:xfrm flipH="1">
            <a:off x="5105160" y="2666880"/>
            <a:ext cx="6858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Line 68"/>
          <p:cNvSpPr/>
          <p:nvPr/>
        </p:nvSpPr>
        <p:spPr>
          <a:xfrm>
            <a:off x="6477120" y="2666880"/>
            <a:ext cx="152388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Line 69"/>
          <p:cNvSpPr/>
          <p:nvPr/>
        </p:nvSpPr>
        <p:spPr>
          <a:xfrm>
            <a:off x="7162920" y="2666880"/>
            <a:ext cx="22860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Line 70"/>
          <p:cNvSpPr/>
          <p:nvPr/>
        </p:nvSpPr>
        <p:spPr>
          <a:xfrm flipH="1">
            <a:off x="6629040" y="2666880"/>
            <a:ext cx="1219320" cy="83844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55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5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805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50"/>
                            </p:stCondLst>
                            <p:childTnLst>
                              <p:par>
                                <p:cTn id="343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55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evt="end">
                                        <p:tn val="352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955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5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355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755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377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7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3155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2049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555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605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8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955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005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4355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405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855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4905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355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605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655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5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6105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6155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605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655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105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7155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7605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WordArt 2"/>
          <p:cNvSpPr txBox="1"/>
          <p:nvPr/>
        </p:nvSpPr>
        <p:spPr>
          <a:xfrm>
            <a:off x="609480" y="304920"/>
            <a:ext cx="5243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actic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914400" y="16765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e the polynomials in standard form and identify the polynomial by degree and number of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2590920" y="2743200"/>
                <a:ext cx="35877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1" name="Text Box 5"/>
          <p:cNvSpPr/>
          <p:nvPr/>
        </p:nvSpPr>
        <p:spPr>
          <a:xfrm>
            <a:off x="19051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905120" y="4648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2666880" y="4495680"/>
                <a:ext cx="29718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65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3"/>
              <p:cNvSpPr txBox="1"/>
              <p:nvPr/>
            </p:nvSpPr>
            <p:spPr>
              <a:xfrm>
                <a:off x="2925720" y="533520"/>
                <a:ext cx="31384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3363840" y="1828800"/>
                <a:ext cx="21859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Object 5"/>
              <p:cNvSpPr txBox="1"/>
              <p:nvPr/>
            </p:nvSpPr>
            <p:spPr>
              <a:xfrm>
                <a:off x="3124080" y="2666880"/>
                <a:ext cx="95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Object 7"/>
              <p:cNvSpPr txBox="1"/>
              <p:nvPr/>
            </p:nvSpPr>
            <p:spPr>
              <a:xfrm>
                <a:off x="3962520" y="2666880"/>
                <a:ext cx="990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Object 8"/>
              <p:cNvSpPr txBox="1"/>
              <p:nvPr/>
            </p:nvSpPr>
            <p:spPr>
              <a:xfrm>
                <a:off x="4876920" y="2743200"/>
                <a:ext cx="6490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757600" y="3505320"/>
                <a:ext cx="3170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1"/>
              <p:cNvSpPr txBox="1"/>
              <p:nvPr/>
            </p:nvSpPr>
            <p:spPr>
              <a:xfrm>
                <a:off x="3367080" y="4419720"/>
                <a:ext cx="2239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Text Box 12"/>
          <p:cNvSpPr/>
          <p:nvPr/>
        </p:nvSpPr>
        <p:spPr>
          <a:xfrm>
            <a:off x="1981080" y="51814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degree, or cub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WordArt 2"/>
          <p:cNvSpPr txBox="1"/>
          <p:nvPr/>
        </p:nvSpPr>
        <p:spPr>
          <a:xfrm rot="5400000">
            <a:off x="-1208880" y="2732760"/>
            <a:ext cx="4875480" cy="1085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Problem 2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"/>
              <p:cNvSpPr txBox="1"/>
              <p:nvPr/>
            </p:nvSpPr>
            <p:spPr>
              <a:xfrm>
                <a:off x="3071880" y="533520"/>
                <a:ext cx="2844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Object 4"/>
              <p:cNvSpPr txBox="1"/>
              <p:nvPr/>
            </p:nvSpPr>
            <p:spPr>
              <a:xfrm>
                <a:off x="3465360" y="1828800"/>
                <a:ext cx="1981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3260880" y="2666880"/>
                <a:ext cx="6825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3962520" y="2743200"/>
                <a:ext cx="85248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7"/>
              <p:cNvSpPr txBox="1"/>
              <p:nvPr/>
            </p:nvSpPr>
            <p:spPr>
              <a:xfrm>
                <a:off x="4876920" y="2743200"/>
                <a:ext cx="546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0"/>
          <p:cNvSpPr/>
          <p:nvPr/>
        </p:nvSpPr>
        <p:spPr>
          <a:xfrm>
            <a:off x="1905120" y="38862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24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degree, or quadratic, 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2"/>
          <p:cNvSpPr txBox="1"/>
          <p:nvPr/>
        </p:nvSpPr>
        <p:spPr>
          <a:xfrm>
            <a:off x="609480" y="304920"/>
            <a:ext cx="52149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Objective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14400" y="2133720"/>
            <a:ext cx="7620120" cy="19378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determine the degree of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classify a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40458c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 able to write a polynomial in standard for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1447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ber, a variable or the product of a number and one or more varia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609480" y="25146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Poly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monomial or a sum of monomial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3429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B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wo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09480" y="4419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Tri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polynomial with exactly three term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09480" y="5486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Coefficient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A numerical factor in a term of an algebraic expressio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67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7525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875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609480" y="304920"/>
            <a:ext cx="536760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Vocabula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1828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monomial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sum of the exponents of all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09480" y="31240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Degree of a polynomial in one variable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495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Standard form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When the terms of a polynomial are arranged from the largest exponent to the smallest exponent in decreasing ord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8775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8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685800" y="380880"/>
            <a:ext cx="622476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Degree of a Monom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600200" y="1676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hat is the degree of the monomial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4"/>
              <p:cNvSpPr txBox="1"/>
              <p:nvPr/>
            </p:nvSpPr>
            <p:spPr>
              <a:xfrm>
                <a:off x="3429000" y="2057400"/>
                <a:ext cx="12952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5" name="Text Box 5"/>
          <p:cNvSpPr/>
          <p:nvPr/>
        </p:nvSpPr>
        <p:spPr>
          <a:xfrm>
            <a:off x="685800" y="2743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monomial is the sum of the exponents of the variables in th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85800" y="3657600"/>
            <a:ext cx="8153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exponents of each variable are 4 and 2.  4+2 =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the monomial is 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monomial can be referred to as a sixth degree mo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675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175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25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545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09480" y="18288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is a monomial or the sum of monomial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1219320" y="2438280"/>
                <a:ext cx="761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743200" y="2438280"/>
                <a:ext cx="1371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4876920" y="243828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7"/>
          <p:cNvSpPr/>
          <p:nvPr/>
        </p:nvSpPr>
        <p:spPr>
          <a:xfrm>
            <a:off x="609480" y="32004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monomial in a polynomial is a term of the poly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number factor of a term is called the coefficien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spcBef>
                <a:spcPts val="15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coefficient of the first term in a polynomial is 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wo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polynomial with three terms is called a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inomi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4075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8575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3075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675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805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3775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990720" y="380880"/>
            <a:ext cx="73864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ynomials in One Vari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4"/>
              <p:cNvSpPr txBox="1"/>
              <p:nvPr/>
            </p:nvSpPr>
            <p:spPr>
              <a:xfrm>
                <a:off x="552600" y="3352680"/>
                <a:ext cx="118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5"/>
              <p:cNvSpPr txBox="1"/>
              <p:nvPr/>
            </p:nvSpPr>
            <p:spPr>
              <a:xfrm>
                <a:off x="609480" y="51055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533520" y="4114800"/>
                <a:ext cx="2546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Text Box 7"/>
          <p:cNvSpPr/>
          <p:nvPr/>
        </p:nvSpPr>
        <p:spPr>
          <a:xfrm>
            <a:off x="685800" y="16765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degree of a polynomial in one variable is the largest exponent of that variabl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914400" y="2590920"/>
                <a:ext cx="473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Text Box 9"/>
          <p:cNvSpPr/>
          <p:nvPr/>
        </p:nvSpPr>
        <p:spPr>
          <a:xfrm>
            <a:off x="1523880" y="2743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constant has no variable.  It is a 0 degree polynomial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1600200" y="3429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1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st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2971800" y="41148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2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n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2133720" y="51814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s is a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.  3</a:t>
            </a:r>
            <a:r>
              <a:rPr b="0" lang="en-US" sz="1800" spc="-1" strike="noStrike" baseline="30000">
                <a:solidFill>
                  <a:srgbClr val="40458c"/>
                </a:solidFill>
                <a:latin typeface="Tahoma"/>
              </a:rPr>
              <a:t>rd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degree polynomials are </a:t>
            </a:r>
            <a:r>
              <a:rPr b="1" i="1" lang="en-US" sz="1800" spc="-1" strike="noStrike">
                <a:solidFill>
                  <a:srgbClr val="40458c"/>
                </a:solidFill>
                <a:latin typeface="Tahoma"/>
              </a:rPr>
              <a:t>cubi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25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22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30475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4975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3475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7975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3"/>
          <p:cNvSpPr/>
          <p:nvPr/>
        </p:nvSpPr>
        <p:spPr>
          <a:xfrm>
            <a:off x="76212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lassify the polynomials by degree and number of term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WordArt 4"/>
          <p:cNvSpPr txBox="1"/>
          <p:nvPr/>
        </p:nvSpPr>
        <p:spPr>
          <a:xfrm>
            <a:off x="609480" y="380880"/>
            <a:ext cx="459576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ampl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2193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ly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609480" y="3124080"/>
            <a:ext cx="3812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1676520" y="3124080"/>
                <a:ext cx="293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8"/>
              <p:cNvSpPr txBox="1"/>
              <p:nvPr/>
            </p:nvSpPr>
            <p:spPr>
              <a:xfrm>
                <a:off x="1219320" y="3886200"/>
                <a:ext cx="107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9"/>
              <p:cNvSpPr txBox="1"/>
              <p:nvPr/>
            </p:nvSpPr>
            <p:spPr>
              <a:xfrm>
                <a:off x="1203480" y="4692600"/>
                <a:ext cx="12398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0"/>
              <p:cNvSpPr txBox="1"/>
              <p:nvPr/>
            </p:nvSpPr>
            <p:spPr>
              <a:xfrm>
                <a:off x="914400" y="5486400"/>
                <a:ext cx="1860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Text Box 11"/>
          <p:cNvSpPr/>
          <p:nvPr/>
        </p:nvSpPr>
        <p:spPr>
          <a:xfrm>
            <a:off x="2971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191120" y="236232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degre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6400800" y="2133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lassify by number of ter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3124080" y="31240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Zer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914400" y="3048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nstan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6705720" y="312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o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124080" y="39625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Fir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4572000" y="3962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670572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3124080" y="4800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eco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572000" y="4800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6705720" y="4800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312408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hir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Text Box 25"/>
          <p:cNvSpPr/>
          <p:nvPr/>
        </p:nvSpPr>
        <p:spPr>
          <a:xfrm>
            <a:off x="4572000" y="5562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ubic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0572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rinomial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Line 27"/>
          <p:cNvSpPr/>
          <p:nvPr/>
        </p:nvSpPr>
        <p:spPr>
          <a:xfrm>
            <a:off x="281952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Line 28"/>
          <p:cNvSpPr/>
          <p:nvPr/>
        </p:nvSpPr>
        <p:spPr>
          <a:xfrm>
            <a:off x="42670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Line 29"/>
          <p:cNvSpPr/>
          <p:nvPr/>
        </p:nvSpPr>
        <p:spPr>
          <a:xfrm>
            <a:off x="6095880" y="3048120"/>
            <a:ext cx="0" cy="304776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Line 30"/>
          <p:cNvSpPr/>
          <p:nvPr/>
        </p:nvSpPr>
        <p:spPr>
          <a:xfrm>
            <a:off x="914400" y="36576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914400" y="457200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914400" y="5334120"/>
            <a:ext cx="7620120" cy="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025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25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25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8525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025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2525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25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4025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4525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25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5525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6024"/>
                            </p:stCondLst>
                            <p:childTnLst>
                              <p:par>
                                <p:cTn id="2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6525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7025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7525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8025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525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25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31525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6025"/>
                            </p:stCondLst>
                            <p:childTnLst>
                              <p:par>
                                <p:cTn id="26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525"/>
                            </p:stCondLst>
                            <p:childTnLst>
                              <p:par>
                                <p:cTn id="267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45025"/>
                            </p:stCondLst>
                            <p:childTnLst>
                              <p:par>
                                <p:cTn id="27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4025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8525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63025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68525"/>
                            </p:stCondLst>
                            <p:childTnLst>
                              <p:par>
                                <p:cTn id="291" nodeType="afterEffect" fill="hold" presetClass="entr" presetID="3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609480" y="380880"/>
            <a:ext cx="580068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tandard For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914400" y="2438280"/>
            <a:ext cx="78487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rewrite a polynomial in standard form, rearrange the terms of the polynomial starting with the largest degree term and ending with the lowest degree term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leading coefficien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the coefficient of the first term in a polynomial written in standard form, should be positiv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7:25:23Z</dcterms:created>
  <dc:creator>Curriculum and Professional Development</dc:creator>
  <dc:description/>
  <dc:language>en-US</dc:language>
  <cp:lastModifiedBy>LEGION</cp:lastModifiedBy>
  <dcterms:modified xsi:type="dcterms:W3CDTF">2017-07-06T06:36:43Z</dcterms:modified>
  <cp:revision>11</cp:revision>
  <dc:subject/>
  <dc:title>PowerPoint Presentation</dc:title>
</cp:coreProperties>
</file>